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C3F-D0E9-44BB-910A-F1CCA485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CCF-3A4C-4E5E-8639-7ADDBE7B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464-6B30-4CF4-9126-2D0752C4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F1E-D0F1-48EB-9CF4-1C7EAD79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4829-4DAD-4943-B03E-7475EE36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00CA-69CA-44A9-B09B-C0F7E37B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78A1-417D-45CC-B57D-4499BA9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5B24-3916-45F0-96B1-949279CB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D51A-F35E-46BA-BB0B-EFA9752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A06-FF3C-4388-BFBE-EDE7AE5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A9C-F04F-457E-B294-50BD014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27A-B91B-4336-A3E5-0FD6C8D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4573-531F-4045-844E-7084652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620-8483-456C-B898-454CEC1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4274-17D8-4831-A891-8E9DBE9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08B7-4E00-47CE-B614-A2457D5F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A6BB-F83A-4F89-BA2E-372A2F1E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889-8D18-4F41-897A-3FD2CE8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71F-DC8F-458E-8B5E-960FFBA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F1F-9363-4253-806E-6944A3AD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73D-E8F3-4357-8567-3A566BB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F67-F92A-4D44-BB2F-1CCBB09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CB6-1BEA-460D-BBB9-F788597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613-5ECB-4653-833B-75FE757A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3AE2-F67D-4034-A8FD-1852620867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9333-9D28-4671-9B71-299A6DD6E6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accad.osu.edu/~smay/Human/arm3.m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issue made of muscles cells (AKA muscle fib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ized for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letal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ac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Muscular System: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keletal Muscle Tiss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86280" y="-120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: Anatomy &amp; Sarcome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560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20360" y="12193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1447920"/>
            <a:ext cx="609840" cy="1295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56520" y="26668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omys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080" y="2437920"/>
            <a:ext cx="914400" cy="3049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1680" y="5562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zone of over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53000" y="4495680"/>
            <a:ext cx="19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/w I &amp; A-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es the muscle get the message to contract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ce where neuron (nerve cell) and muscle fiber m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 small space between the neuron and the muscle fiber (SYNAPSE or synaptic cle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d of the neuron is known as a kn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uron is PRE-synaptic (before synapse) and the muscle fiber is POST-synaptic (after synap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etylcho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Ch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transmitter that binds to motor end p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action potential in muscle fi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on Potent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impulse that spreads message throughout muscle fi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673200"/>
            <a:ext cx="7620120" cy="618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8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739800"/>
            <a:ext cx="8839080" cy="611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83400" y="-9360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s at neuromuscular jun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 (electrical signal) arrives at pre-synaptic kn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 opens calcium channels in pre-synaptic kno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cium rushes into pre-synaptic kn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ium triggers release of acetylcholine (Ach) from vesicles into syn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h in synapse binds to receptors in muscle fiber membrane; receptors are attached to sodium chann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eps at neuromuscular junction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Once enough Ach is attached to receptors, sodium channels are open and sodium enters the muscle fi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Sodium entering the muscle fiber passes the action potential (message) to the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Ach-ase is an enzyme that breaks down Ach in the synapse so that the impulse is st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8635" t="5271" r="5067" b="1641"/>
          <a:stretch/>
        </p:blipFill>
        <p:spPr>
          <a:xfrm>
            <a:off x="0" y="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2271600"/>
            <a:ext cx="6094440" cy="458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43200" y="91440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905120"/>
            <a:ext cx="381024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51040" y="6333480"/>
            <a:ext cx="851400" cy="5205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7240" y="4195080"/>
            <a:ext cx="18936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=Ach-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3880" y="4728240"/>
            <a:ext cx="2861280" cy="520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End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77120" y="365724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952880" y="3962520"/>
            <a:ext cx="15242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34290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505320" y="563832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879040" y="228600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chanism of Muscle Contra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iding Filament Theory (SF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 filaments slide on thick filament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er of sarcom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comeres shorten together= con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&amp; I-bands gets small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ne of overlap gets lar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-lines move closer toge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band remains con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. Muscle Functions &amp; Characteris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leta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re &amp; body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/ shield soft tissues (i.e. org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ard entrances &amp; ex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body 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racteristics of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blood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nerve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F Theory: Sarcomere Termi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oss-bridg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osin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ve s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n sites for myosin head attach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sed when muscle con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opomyos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ers actin active sites when muscle at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opon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bind with actin, tropomyosin, and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s tropomyosin off active sites when muscle wants to contract &amp;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1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on potential (signal) reaches muscle fi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on pot. reaches cisternae via T-tubul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Calcium is released from the sarcoplasmic reticulum into the sarcopla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Calcium binds to troponin, which in turn makes tropomyosin move which opens the attachment sites in act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Myosin heads bind to actin attachment sites and form cross bri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energy stored in myosin heads is used to move myosin heads causing actin to slide past myo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ATP binds to myosin 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ATP is broken down and myosin heads release from actin attachment 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 heads of myosin return to original position and energy is stored in myosin 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Calcium is actively transported back into the sarcoplasmic reticulum (energy required) -[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] concentration returns to normal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.Troponin-tropomyosin complex covers active si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. Muscle contraction over and muscle returns to normal, resting leng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399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00960" y="28954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32840" y="30034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-228600"/>
            <a:ext cx="7010280" cy="6792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84680" y="2438280"/>
            <a:ext cx="20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twit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ion of a muscle in response to a stim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6553440" cy="498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or Unit, Muscle Control, &amp; Tens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it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ingle stimulus-contraction-relax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Un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ll muscle fibers/1 motor neu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varies with pr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= 2-3 m. fibers/ 1 neuro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e fine pr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=2,000 m. fibers/ 1 neur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ss precision, gross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ded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 OR NONE LAW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the action potential reaches a muscle fiber, the fiber always contracts with the same int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how can we control strength of contrac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 number of motor units recru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 of contraction increases with number of moto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eletal Muscle Organiz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Fasciculu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Fiber (=cell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ofibri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teins: Actin &amp; Myo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ive tissue surrounding muscle organiz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s w/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nd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eriosteum of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i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 fasci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blood vessels &amp; ner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do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 fi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ypes of Contractions &amp; Muscle T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tonic con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ension builds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entr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uscle shortens with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centr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uscle lengthens with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metric con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ension buil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length doesn’t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 posture, no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1080" y="685800"/>
            <a:ext cx="1942920" cy="14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22470" t="0" r="14094" b="0"/>
          <a:stretch/>
        </p:blipFill>
        <p:spPr>
          <a:xfrm>
            <a:off x="6858000" y="2819520"/>
            <a:ext cx="1309680" cy="403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0" r="5527" b="0"/>
          <a:stretch/>
        </p:blipFill>
        <p:spPr>
          <a:xfrm>
            <a:off x="6095880" y="0"/>
            <a:ext cx="3048120" cy="297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cle Ton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ing tension in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ent ability of the muscle to respond to a stre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bili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damage from sudden change/ overstretch of joint pos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ormal 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one= flac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ead to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tr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no nerve stim or exercise (SCI/ ca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Tone: Spast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P Supply for Muscle Ac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reserves in muscl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36 ATP (muscle at r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e Phosphate (CP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at rest and stored in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depleted (8-10 se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K is enzyme that speeds up C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maged muscl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 contractions occur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used CPK leaks into blood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CPK blood levels for muscle damage (M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gen (Glucose s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36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 ATP &amp; 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xygen is used by your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ATP and 2 molecules of lactic acid are made per molecule of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s less than 3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et less ATP but you get it f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available and used by your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 ATP made per molecule of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use fatty acids and amino acids (in addition to gluc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et more ATP but you get it s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20156" r="0" b="0"/>
          <a:stretch/>
        </p:blipFill>
        <p:spPr>
          <a:xfrm>
            <a:off x="0" y="213372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P Supplies for Muscle A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72306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-30600" y="2138040"/>
            <a:ext cx="249840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t &amp; St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&amp; 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34400" r="0" b="35516"/>
          <a:stretch/>
        </p:blipFill>
        <p:spPr>
          <a:xfrm>
            <a:off x="1447920" y="-73080"/>
            <a:ext cx="7696080" cy="693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70200" y="2899800"/>
            <a:ext cx="262512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rate U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&amp; 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71174" r="0" b="0"/>
          <a:stretch/>
        </p:blipFill>
        <p:spPr>
          <a:xfrm>
            <a:off x="1905120" y="27000"/>
            <a:ext cx="7238880" cy="6831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-53640" y="2747520"/>
            <a:ext cx="303480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ak &amp; U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1295280"/>
          <a:ext cx="9144000" cy="5270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osphocrea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erob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erob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ath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ltra-marath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cer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ercent contribution to ATP gen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Fatigue &amp; A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cle fatig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 longer contract despite neuron st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: no energy reser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ild up 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ivity &amp; Resultant Fati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ath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 yd. da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581280"/>
            <a:ext cx="80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ete lipid, carbo, &amp; a.a. 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3440" y="4648320"/>
            <a:ext cx="78706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tic acid buildu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ow p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enzyme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anaerobic glycolysis &amp; muscle f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93560" y="304812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aerobic re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7320" y="411480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glyc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eletal Muscle Organization Diagr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1520" y="533520"/>
            <a:ext cx="590868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covery Perio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 Go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ove lactic ac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recycl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uscle: Lactic aci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liver: lactic aci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uco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xygen deb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e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r: Cori Cycle (Lactic Ac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ucose needs AT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s: Aerobic Respiration (replenish AT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blood and tissue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eathe deeply after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ease excess muscle he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don’t rid heat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get rigor (severe contra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tic Acid Recycling &amp; 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Deb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rmones &amp; Muscle Metabo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rowth Hormone &amp; Testoster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 protein synthesis &amp; muscle enlar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yroid Horm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heat produ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nephrine (adrenaline) &amp; adrenal horm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 muscle function (flight respon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Perform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performance determined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max amount of tension by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dur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ow long individual can perfor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Determining Fa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muscle fibers: fast, slow, intermed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conditioning/ training: anaerobic/ 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 Typ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Twitch= Whit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aerobic, fast fatig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Twitch= Red (myoglobin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erobic, slow fat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= structure like fast, fcn like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4267080"/>
            <a:ext cx="1600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81280"/>
            <a:ext cx="1600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fiber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TWI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ct slow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er in dia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blood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more myoglob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fatigue resi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erobic resp is primary source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or long term, endurance con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TWI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ct rapid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r in dia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blood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myoglob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s of glyc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 resp is primary source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or short time con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8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2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4" dur="2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2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d &amp; White Muscle Fib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5835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2590920" y="609480"/>
            <a:ext cx="12189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094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609480"/>
            <a:ext cx="304920" cy="502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609480"/>
            <a:ext cx="3962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9400" y="2057400"/>
            <a:ext cx="24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capill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amp; mitocho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tribution Muscle Fib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hicke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muscles= fast fibers= breast b/c used for flight from predator (short, powerful move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 muscles= slow fibers= dark leg meat b/c walk a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um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 &amp; eye: more fast fibers, few slow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 &amp; calf muscles: many slow fibers b/c continuously u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 of fast &amp; slow fibers genetically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mediate fibers change with physical cond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ysical Conditioning: Anaerobi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erobic 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formed 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ast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tigue Resist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1 minute with all reser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i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requent, brief, intense worko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 of trai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ncrease glycolytic enzymes, glycogen reserv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ertrop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50 yd. dash, weight lifting, pole v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’s testosterone results in bigger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roid u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ysical Conditioning: Aerobi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iration: mitochondria suppor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formed b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low  &amp; intermediat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tigue resist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deplete nutr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a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ustained low levels of muscle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ults of tra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muscles develop characteristics of intermed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circulation for continuous nutrients and oxygen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number of 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jogging, distance swim, no peak tension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91520" y="28195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590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effects of exerci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 of mitochond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 of nucl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size of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vascularity (better blood supp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capability to ge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-87840" y="5297760"/>
            <a:ext cx="2666520" cy="1556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 End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ing &amp; Muscular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: decr size &amp; power of muscle t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diameter becomes sma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reser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anaerobic &amp; aerobic perform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smaller &amp; less e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erance for exercise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apid fatigue &amp; decrease thermo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injury recovery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exercise helps bones, quality of life, we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nical Appl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igor Mor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death, mm run out of nutrient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prived of AT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’t pump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r detach myosin head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ock in contracted position until lysosomal enzymes breakdown filaments 15-25 h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yperkal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paralysi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rdiac muscle most sensitiv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rdiac ar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tan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releases toxin that affects motor neurons causing sustained, powerful cont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e tetanus: 40-60% mortality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unization pr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nical Appl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am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xtended, painful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in [ion] (sweating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hydration) or pH (lactic acid) often resulting from muscle fatigue, drugs, nerve irritation, or sarcolemma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otuli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prevents release of AC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atal par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asthenia Grav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function in body’s immune system causes decrease in # ACh recepto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ular weakness mostly chest &amp; 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l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o virus kills motor neuron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yze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rophy (iron lung if respiratory muscles affect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gross anat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complished when muscle con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stationary end of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of muscle attached to bone undergoing greatest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gross anat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that accomplishes a certa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ag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acting in opposition (against) the ago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erg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s that work together to accomplish one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e mover: mainly responsible for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zers: provide stability necessary for prime m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0120" y="198108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ge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24160" y="206532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 (cell) Anato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ltinucle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tei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lem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ell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pla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plasmic Reticulu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ansverse tubu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(t-tub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 carrying nerve signals b/w musc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sterna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ntain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muscle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ofibri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nit that short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ed of protein fibers=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yofila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in fila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os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ick filament with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myofibrils: glycogen stores &amp; 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876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8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ofila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3593" r="2999" b="3169"/>
          <a:stretch/>
        </p:blipFill>
        <p:spPr>
          <a:xfrm>
            <a:off x="0" y="1066680"/>
            <a:ext cx="7543800" cy="530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886" t="8823" r="4507" b="30777"/>
          <a:stretch/>
        </p:blipFill>
        <p:spPr>
          <a:xfrm>
            <a:off x="4343400" y="457200"/>
            <a:ext cx="4800600" cy="1844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43920" y="106668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: 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: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8200" y="6035760"/>
            <a:ext cx="23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-lin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 att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14920" y="603576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-l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 att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2760" y="28954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67960" y="3581280"/>
            <a:ext cx="20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07000" y="2743200"/>
            <a:ext cx="36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length of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360" y="64008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one of Over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Sarcomer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: Smallest Contractile Uni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581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720" y="3048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8098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24480" y="5715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809880" y="56386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33720" y="54864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20:58:26Z</dcterms:created>
  <dc:creator>Melissa Hecht</dc:creator>
  <dc:description/>
  <dc:language>en-US</dc:language>
  <cp:lastModifiedBy>jayoig</cp:lastModifiedBy>
  <dcterms:modified xsi:type="dcterms:W3CDTF">2008-12-15T15:24:04Z</dcterms:modified>
  <cp:revision>79</cp:revision>
  <dc:subject/>
  <dc:title>The Muscular System: Skeletal Muscle Tissue</dc:title>
</cp:coreProperties>
</file>